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52D-0483-447F-A78D-5A5C5D8D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48B-3259-47A3-AFFD-A44292B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597-2F63-42B3-B0FE-A3E44E49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644-BFAE-4099-8D3D-3731BC47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7864-3113-4846-B120-7379E3AD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A119-B128-4F57-9A1B-67D67202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60C-4925-4B3B-895D-A0851704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5A18-442E-4A67-B603-A0CBA0C4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1265-EF45-4A52-BD0B-31915B6F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03B-E74D-49FD-99D3-3C412E5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987B-3FE0-467D-A2D2-E5F5F56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E1E-28CB-4512-A4BD-9BFCC806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F053-A1C8-41F3-88B6-917A37E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2DC0-7436-4408-A7A5-76E95C9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7562-1735-4293-AC02-820D450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A41-05C8-4C02-BA7C-06F96B6A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58AF-7721-4B9B-AF5A-36497E6A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535-E8B3-463D-B680-5AA559EE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BEB-0CFD-4993-BB14-360A1598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E0B-789F-452A-BE31-445DA67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414-FF0D-4DE4-BB07-FDD2618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F07-675C-4F15-AB0B-62BF08F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B4E-9F4A-4E00-880C-5E2E0F6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BCB-D981-46BF-88C7-A8201738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2AA-4351-41A1-B223-8C4A0D62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08A8-0F89-460A-96FE-A60736064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Word Buckets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buckets to categorize vocabulary words! Whole group, or 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Word Bucke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hole group, place “buckets” with category labels in the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each student or student partners a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take turns placing their word by the correct bu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played with teams for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easily be adapted to a station after it has been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56:33Z</dcterms:modified>
  <cp:revision>8</cp:revision>
  <dc:subject/>
  <dc:title>Light Up the World A vocabulary game from Mentoring Minds Grades 1-4</dc:title>
</cp:coreProperties>
</file>